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74128"/>
        <c:axId val="70373706"/>
      </c:barChart>
      <c:catAx>
        <c:axId val="134741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73706"/>
        <c:crosses val="autoZero"/>
        <c:auto val="1"/>
        <c:lblAlgn val="ctr"/>
        <c:lblOffset val="100"/>
        <c:noMultiLvlLbl val="0"/>
      </c:catAx>
      <c:valAx>
        <c:axId val="70373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741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EE22-CACF-4A49-A0D9-6C09452D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309-8F8C-49F9-B53D-19E8DD36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3253-8217-40E2-A8E0-418EB1D3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B071-53CC-428A-A205-D0735B84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EBED-81FB-4EF4-A6BE-623A12A4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0BD-CF2B-490C-B08A-84048650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FA0-98E5-4EEA-A1A6-9070D87C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A45-6A56-46DF-801D-146B981B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9C91-EEE2-4737-A40E-987553B3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797-42F5-4316-8431-5C255D6F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00E2-9DAD-4DAA-A54E-981E41F5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239-8B61-4E8C-8074-FAF38199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0C34E-9EC0-498B-8DAA-B8CFCEE6C2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