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85354"/>
        <c:axId val="22179435"/>
      </c:barChart>
      <c:catAx>
        <c:axId val="15185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79435"/>
        <c:crosses val="autoZero"/>
        <c:auto val="1"/>
        <c:lblAlgn val="ctr"/>
        <c:lblOffset val="100"/>
        <c:noMultiLvlLbl val="0"/>
      </c:catAx>
      <c:valAx>
        <c:axId val="22179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85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476-EE87-42B1-BAF7-33FD9851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D8D-F660-4646-8F0A-9C8633E1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8EF-F683-44E6-B1BC-09D44550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46F-A1F1-4EC0-BA3F-978C8A44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09E-D087-4115-A24B-25708C4A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8B1-CA16-4098-89D7-B297F69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D4D-37F2-4DE5-A001-86E1495B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8D3-A156-41DD-849F-638CC560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25D-5F06-4A4A-82C5-15622D47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745-908A-4556-97CF-065FF57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EC3-F3C5-4AC2-8A3F-8E4639A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84A-5B31-49E7-B336-5E4CF87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4D643-CC3A-460B-96CC-CE99F079F0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