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44174"/>
        <c:axId val="7554569"/>
      </c:barChart>
      <c:catAx>
        <c:axId val="22744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4569"/>
        <c:crosses val="autoZero"/>
        <c:auto val="1"/>
        <c:lblAlgn val="ctr"/>
        <c:lblOffset val="100"/>
        <c:noMultiLvlLbl val="0"/>
      </c:catAx>
      <c:valAx>
        <c:axId val="7554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44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446-7FA4-450F-9415-FC01D343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DBF-BA53-44BE-841F-2507FAA0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955-A03D-4F01-94D1-14AEBF33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05F-E090-4A73-B2DA-F854CD16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EDE-E699-40FB-925A-E276F592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832-9269-438C-8F35-A1C32FA7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DC1-4BD9-4022-8AA1-5480DC61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0B5-11CC-4A3C-B437-FB77565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50D-7753-4762-B701-B625016D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A26-84B3-43D3-9C00-8C67F5A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947-6053-43BE-8DB5-DEE1072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076-92A8-4151-85A9-BE1ADD7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95D51-95E5-4D80-9E40-F7DB08DCF5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