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9077"/>
        <c:axId val="21382268"/>
      </c:barChart>
      <c:catAx>
        <c:axId val="612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82268"/>
        <c:crosses val="autoZero"/>
        <c:auto val="1"/>
        <c:lblAlgn val="ctr"/>
        <c:lblOffset val="100"/>
        <c:noMultiLvlLbl val="0"/>
      </c:catAx>
      <c:valAx>
        <c:axId val="21382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340-5829-4D5B-9456-622A89C6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000-3A3A-40E7-AB15-1D784E3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47C-4F68-4D2D-96D8-CD111F2F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080-AB0C-4AA1-BFF1-A235B62C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818-E1D6-40D1-9D06-976D7DF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76C-80A5-46A4-9763-B1E19DA6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BBD-0FEF-4037-8766-6B43ED6E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89A-F895-4316-8921-7A14ABC5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DAF-97F3-4F22-8712-1A3119A8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AE9-D095-45E3-988B-8E8ACF81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793-B803-4750-A15C-B397B94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1E5-B349-493C-8B59-833897F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2F694-77E7-418C-9640-DB89308C82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