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86210"/>
        <c:axId val="38074401"/>
      </c:barChart>
      <c:catAx>
        <c:axId val="49286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74401"/>
        <c:crosses val="autoZero"/>
        <c:auto val="1"/>
        <c:lblAlgn val="ctr"/>
        <c:lblOffset val="100"/>
        <c:noMultiLvlLbl val="0"/>
      </c:catAx>
      <c:valAx>
        <c:axId val="38074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86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46A-B9A4-4FA6-A730-07A6A806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DA8-BD88-4EC6-B280-DC100AC1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32A7-40E6-419F-8016-97A1C3C7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B31B-EBBB-46E7-A3B6-0999D421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85F-8C09-45A2-BFAE-AA9229D6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92DE-4B6B-4820-AB9B-A8A4226D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88C-2544-459F-A543-886B2DB4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6C7-5BBC-42A2-B1A8-346379B1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DA2-8855-4752-9528-1ECD2F82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D7B-6D3F-431D-A283-320A8C74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1730-8F40-4F14-AC8B-C2DD93F6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7E0-3DE5-4C8D-8544-9B3B121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9104C-6DDD-429C-B5E5-6E291A77C9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