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35728"/>
        <c:axId val="46378618"/>
      </c:barChart>
      <c:catAx>
        <c:axId val="86435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78618"/>
        <c:crosses val="autoZero"/>
        <c:auto val="1"/>
        <c:lblAlgn val="ctr"/>
        <c:lblOffset val="100"/>
        <c:noMultiLvlLbl val="0"/>
      </c:catAx>
      <c:valAx>
        <c:axId val="46378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35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159-8CE4-4387-9114-689732F9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334-B472-4E98-9E36-20067012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67DB-2A24-42DA-8292-10C335D1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88C-3DE6-494C-9F6E-EA57A5FF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231-0648-4416-8370-514DFE98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DFD-C4D0-4A87-AD4D-5C03EB63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A375-7E77-46FD-8F36-B104166E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B73-FC6A-4E42-A553-34590942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2ED-F405-44DD-8CEB-879B04E3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AFB-D28B-4023-85AC-B8A715AD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B6B-A8FA-4AFE-905E-B96DB5F6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EA8-FD28-409A-B4A5-CC8C42D4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27170-AD06-4D9E-96E5-106B4B1C57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