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32932"/>
        <c:axId val="56817046"/>
      </c:barChart>
      <c:catAx>
        <c:axId val="18329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817046"/>
        <c:crosses val="autoZero"/>
        <c:auto val="1"/>
        <c:lblAlgn val="ctr"/>
        <c:lblOffset val="100"/>
        <c:noMultiLvlLbl val="0"/>
      </c:catAx>
      <c:valAx>
        <c:axId val="568170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329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71F0-8D65-4E34-A3FC-FEB7FCD22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A77B-DB81-40B1-AB5F-B7D4350D6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C90B-4B32-42BD-83EF-96BDEC7ED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AA10-0518-4977-8FC3-802641EA7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00C1-BD36-47D6-AE48-01DE6D7C6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5B44-02A5-404A-BC23-D10F15570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8802-281B-4FE2-977D-650C5DD5F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523D-9998-4E71-9E51-58DF088DF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1CE8-8A3B-420F-B39C-EB36BDE8C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9452-B60A-4DDE-9912-5905595D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C663-2E60-495E-B8C9-EFCA77FA8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DAEE-AD1A-4965-8D9D-9EA275343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0F2FEE-FB3C-4276-92E1-ED530EECCB0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