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283990"/>
        <c:axId val="93546697"/>
      </c:barChart>
      <c:catAx>
        <c:axId val="15283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46697"/>
        <c:crosses val="autoZero"/>
        <c:auto val="1"/>
        <c:lblAlgn val="ctr"/>
        <c:lblOffset val="100"/>
        <c:noMultiLvlLbl val="0"/>
      </c:catAx>
      <c:valAx>
        <c:axId val="93546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83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CAC-46C1-4CB1-92B2-FB5B55B5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F97-8AA9-4ADE-912B-9E542303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3A5-6500-45D0-AACE-0C2C1B67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1F1-561B-4501-95E9-CC22DFAF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2B1-2A47-4E7D-A360-9AA2BC45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BF2-C7A8-4308-92B7-BFC91243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27F5-1998-4F00-BFC8-47553D6E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A41-678C-4DB0-9F7F-8F0944DD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3EB-C165-42FC-A854-3626CF1F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8B2-4CAE-44E6-9264-D62FEF9D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33D-3777-4A3A-BC38-B0D97C94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EF1F-C3B6-4DD1-B539-3EFF27E4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BF5D1-097A-4C7C-A7B7-6BB2EC7649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