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07824"/>
        <c:axId val="67306178"/>
      </c:barChart>
      <c:catAx>
        <c:axId val="388078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06178"/>
        <c:crosses val="autoZero"/>
        <c:auto val="1"/>
        <c:lblAlgn val="ctr"/>
        <c:lblOffset val="100"/>
        <c:noMultiLvlLbl val="0"/>
      </c:catAx>
      <c:valAx>
        <c:axId val="67306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078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4C3-4AC1-43A8-9E1C-A27A81E7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B69F-CC86-41BA-AF8B-9D977DC0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6706-353D-4778-AA8D-4B25F621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9299-C6A3-4CC1-AF58-4F0A7D50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2722-7C9F-4751-9A98-76ECFA67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3664-451B-45CE-8F3E-BB27B461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C9C-0B86-4A83-AF41-56385AC5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70B-0F96-4E15-A8E9-C70A81A3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3142-8272-4A23-96DA-B4856BD4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88B8-FAEB-4234-9E35-D5A77A93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A74-0487-4A18-B13D-56B809ED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7DC-586D-47DD-B2AA-9D3B647D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7E0E5-A05A-4A28-81C2-AAE62B1193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