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8050"/>
        <c:axId val="57037618"/>
      </c:barChart>
      <c:catAx>
        <c:axId val="3618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37618"/>
        <c:crosses val="autoZero"/>
        <c:auto val="1"/>
        <c:lblAlgn val="ctr"/>
        <c:lblOffset val="100"/>
        <c:noMultiLvlLbl val="0"/>
      </c:catAx>
      <c:valAx>
        <c:axId val="57037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8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3C9-BA80-423A-A474-0898FE29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13C-C7B3-4295-849E-97415D7F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910-43D7-40A6-9C44-97B124CF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5E1-4BBC-4E1D-8BBC-E7FA9231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54B-35FD-4F5B-B744-55015EE6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077-727B-4EBA-A779-51B26EAA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D76-4C1D-43D9-84EF-BEC796D4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380-1D46-45D1-A193-597A8FA3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4C6-789D-4198-9749-1210B5B2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C16-9C26-4D9D-844C-C0F517F9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B79-D592-43B8-9B37-F029D8F9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7B0B-DBAA-40AD-851C-CF2DFF81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B1E51-2512-4A10-8FFF-991C7B5FD7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