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90914"/>
        <c:axId val="18463745"/>
      </c:barChart>
      <c:catAx>
        <c:axId val="95390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63745"/>
        <c:crosses val="autoZero"/>
        <c:auto val="1"/>
        <c:lblAlgn val="ctr"/>
        <c:lblOffset val="100"/>
        <c:noMultiLvlLbl val="0"/>
      </c:catAx>
      <c:valAx>
        <c:axId val="18463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90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3B5-7FF1-45F2-9B94-5F0C6B11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094-C759-4290-8F95-BE72B8F9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905-A200-4FA1-A889-CEA64EB5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121-D757-4C27-AA6E-50D9C4C7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EE6-DFC7-438D-8975-F538A098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335-998A-49AB-8DF3-C866BC6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037-1A21-4DB3-A075-45AD8B91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D0E-7D51-4097-ABB1-28F689E6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898-7679-4811-A1D0-19913059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C32-2399-4A0B-B9C4-21E23ED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C59-CA98-4AC4-9814-F45E685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EE1-C10D-4548-8A41-AE95DD5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2AE11-6369-4C94-B048-57BFBDA6F6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