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26983"/>
        <c:axId val="77302181"/>
      </c:barChart>
      <c:catAx>
        <c:axId val="28926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02181"/>
        <c:crosses val="autoZero"/>
        <c:auto val="1"/>
        <c:lblAlgn val="ctr"/>
        <c:lblOffset val="100"/>
        <c:noMultiLvlLbl val="0"/>
      </c:catAx>
      <c:valAx>
        <c:axId val="77302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26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E27-DF2E-47B4-8334-59F36366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509-E0A4-4225-A68E-8F13D335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63C-E731-4C3B-ABA8-F9C974C3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924-D0DA-4302-8672-BD65A70C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B36-5E43-44E0-A004-2E59D8DE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7FF-7612-41A8-976C-53C9233D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1CF1-ADFA-48E3-BF02-3F3D5C24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A24-E46C-4C49-82AF-629D0A86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57E-B05A-4947-9D85-BF4D169A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17C-9BAD-41EE-82EB-703DF829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06C-6B1D-4C48-840E-BBC7760B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448-62EB-44D7-9B58-945C1ABD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9B4B1-4EF1-4096-AA3F-B894CC62A9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