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35046"/>
        <c:axId val="13482210"/>
      </c:barChart>
      <c:catAx>
        <c:axId val="90735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2210"/>
        <c:crosses val="autoZero"/>
        <c:auto val="1"/>
        <c:lblAlgn val="ctr"/>
        <c:lblOffset val="100"/>
        <c:noMultiLvlLbl val="0"/>
      </c:catAx>
      <c:valAx>
        <c:axId val="13482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5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0EB-FA3B-4349-951F-46BB0488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2AD-9D89-4D59-9545-E3F9C611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15F-5AD9-4052-B303-75353456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78B-9092-4A2E-B9A2-6D3A713F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E69-1F52-4FB2-AEDE-3EF95908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8F1-455D-4782-A519-04A316C6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0E8-EF05-4589-A587-1D12882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83D-B93B-424B-BCB3-97BF90E1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E59-CF5C-4D72-9F92-B061753E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BDD-19D7-4F44-A2B6-F7B6600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D90-8D80-4157-BE42-4042BF7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A8D-5028-424B-9496-753F722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7730-A937-47A8-8A15-F594DD3CB1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