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01494"/>
        <c:axId val="4143555"/>
      </c:barChart>
      <c:catAx>
        <c:axId val="74501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3555"/>
        <c:crosses val="autoZero"/>
        <c:auto val="1"/>
        <c:lblAlgn val="ctr"/>
        <c:lblOffset val="100"/>
        <c:noMultiLvlLbl val="0"/>
      </c:catAx>
      <c:valAx>
        <c:axId val="4143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01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3F7-A1EA-4A48-910A-E74F219A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606-6258-4D5C-9DB8-59BB57C8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C31-EF59-4279-8B8C-A8C3FC69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A68-4679-43F8-946E-0BA4A5A5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2B2-4F95-4C54-906C-BCB60FC5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16AF-C16E-4E5B-AEF5-F425B147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1D9-34F8-47F2-A4EA-1B0227E5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BD1-8F00-4995-92D5-9D5378F5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332-2DF9-465F-86BE-98DDBDF4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22C-123F-4D61-8D82-5E7305B8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344-C8DA-43C1-8176-A03DB86B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E20-6D7C-4CE9-AC28-E3742E8C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F7D75-428C-4BAD-A2BE-706100BD47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