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B2D6387-211E-4079-878A-13094079339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8995DFDA-03C8-45B6-B1F0-3F37B2982E5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E8686882-178D-4B68-9A35-E1BC4CD6C99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FC684787-9B88-4CE8-BC43-1B5876A4427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C2264170-1D26-4EA1-AE27-92B7645B828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DA397D-0B34-409C-8726-BD49282D58C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E9D628D6-B0F3-48E3-B61F-90A141DB8DE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57C4619D-E1B4-4DFA-AAC2-BF5AE4D8AE9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BECCF032-C01D-423F-AB9E-C0CE493D3DC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D35743C-3BA8-4A4F-886E-2C8A187EBB2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CE34CA1-5991-4CB5-88A6-41453D00AE6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F8C8199-4C96-4025-9F11-9AFC438EAB9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F55B90-0DF4-4139-80B2-FB81D61954D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EC860B4-DF96-43E9-B1F5-57044C59B89B}"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9E41763-84F9-4803-A245-13BD740F9934}"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FB85A03-37BD-43D9-8BF4-CB127656E272}"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C5FCE88-AE7A-41FF-8313-DE6D555F9198}"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160673-DA13-40CE-ABDA-1E075D443B20}"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D37641-11F4-4ADC-9C4E-3CB455C22051}"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336163-5E67-4995-B811-AEA460C6D498}"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A768F7-1A6A-40DF-8DD8-BDDE43ABF4F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03DDBF-A663-4F1B-A067-5A4B33C6A06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C316D4E-B20F-484E-AE99-35A94CFAEEB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582DC2-2CEA-43A9-B2F1-556CBB04902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C062920-AB8C-42B7-A429-0066B736838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F91CBB5-074E-4DBD-B02F-98FC29821C4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75FB96D-C21B-45A9-B205-85FA13881EE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E96F82-FFCB-44C5-AD95-7220EB45FFF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CBAEC3-2929-40A0-B450-06AF74913A4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AABCA22-713A-4605-9C84-EC8E9E537D5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630060-8EE8-4BE8-AEEC-91604C9376A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791EF5-2D65-4D50-A93F-CA33BE354F4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F3A842-38A5-47B9-992C-47BE5867DFB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A0F4F68-C2B5-47C8-9867-3B5702BCE23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642A33-03FE-4B26-AF1A-1684CA63764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711F16A-04CE-4BA5-838B-C9A34835187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DC722E5-A8C3-438D-AD32-DA9DF57E1FD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8E33FB-3337-4EF0-9AB0-3B03B65E61E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7B8F33B-44CE-4610-B29C-CAC3B54D51A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3A6EBBB-3160-4716-BA04-F92747571C3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D27054-464E-4300-9E8C-9195676871C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E4CC8D3-573C-43B5-9022-DF818753724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720F8E-4AF9-45A1-B486-1FB258DD0A7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CE421F0-6870-4387-92FD-66B7BF6DB50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320B210-7224-4EC6-AF4E-00EDB6FE8DA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B11C9D9-1B05-4443-BE1B-D912D087A6E4}"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CAEE11-D75E-41DF-923D-842EA4CFC89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88DE578-A678-4A1D-8E58-BC47F5C9146F}"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09BF68E-5CFA-4F70-94F0-B01A744BCD6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B25214-2B46-4174-AEAB-667CB94AE291}"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E6E58B42-B2F6-475A-9E25-2C357C0CC6F5}"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0C696D-46A7-49C5-A606-D80D4621B9A2}"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841452-0A1C-4CCE-8CBE-C4632752093B}"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D4860D-4AB2-4AFD-83CA-3CBE16E31DF0}"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DB4CBB-C43A-421C-8A96-132ACE31ADC8}"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8C68BA6-2541-4BA0-90D5-CD76E6A412B3}"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5CC1C5-0685-43DE-AFAF-1F9F5A7C92C4}"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E5D925-D510-40EE-8012-AD4577E8C654}"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F1D49E0-C90A-4DE5-B6A3-D882E18D4EFB}"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9BF5F0-6E30-49B9-8311-D74A48733A5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E0249388-0CA8-4369-930C-90BADA20B1BF}"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46132CD-BF7B-4FD1-BDA6-BB165354A78F}"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1E22277-6D70-49D3-960C-38A88EC8E53C}"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127B57-6324-42CE-A912-1FD35D74DEA9}"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797F18-3CED-4FC7-BEA8-A298CF98B4C1}"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04BA9BE-C7C7-4BBC-A9E4-06CC794F6A60}"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D2C46C-A085-441C-A527-CE670E92760A}"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A40096-17D3-482E-99E9-2D23DDD53D27}"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DE7885B-34BD-4BF5-9AC3-A0F3CD08A0D6}"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9E48A1-9558-4E47-931A-417EAC4C6F87}"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E8D0D6-CB7A-461B-9181-E85E9EB96E38}"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0CD22B56-38D0-403C-99C5-CF173E7A886B}"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05138BA-2CBB-4C71-8A03-048958572EBE}"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1F7C94-13C1-4437-8C29-3A0186BB8BB7}"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348F7C0-0223-42FA-B0E6-C733CCC05842}"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A3CB372-B242-45F5-B9A9-FDB0BAF8704E}"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4D546D3-9C75-4799-B1B2-C7086F264D19}"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4C5B82-9D22-4638-A952-E8D201316499}"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56B463-7282-429B-AD3A-47A82874EF7E}"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6BDB08D-94AC-4EA3-961A-F780F7768E3D}"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DD5B9D4-A159-4079-9945-257A44965472}"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0A16E0-A117-42B6-B8D2-35BA4EEDA218}"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7F4F6E-B234-4ADB-95F8-71607FAC9BB3}"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6A25756-A21D-4DDA-A461-E622AD0607E8}"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CC04F0-BD2B-41E1-8AFF-96181A776D96}"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BB8920D-B8D7-4241-822D-ACC8AC92E109}"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9264618-93A4-44A7-9335-14FBC0BB2051}"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6796A37-07A1-49B7-B3CF-61912088E192}"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5DBBD03-9F3F-4E32-8A5A-7E449A849FFF}"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5C776C-F45C-40EC-B8F7-78C9E9794533}"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D2D398-E22D-4079-997D-67B26CB9C683}"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E5A85A-3D46-4452-B5D3-F9D740A5DED5}"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B64AD32-14B3-4BEC-B229-4D7DB615CF68}"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65D12E-CA78-4E13-AD7B-EA9260678D13}"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82B6C9-19F1-4D2C-86B1-457186312FDD}"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8B245E-903D-45A9-A691-7DB049BC4583}"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800654-EA1B-4DEE-B555-EA4FCE10493D}"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89BFAF-93FC-4C58-872E-FD6627929216}"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203C87-B69E-4B6E-BF10-9D12155E4E76}"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8833DA-3645-44AA-A87B-D25DBA29362E}"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0E4FFFF-188A-4E18-9804-B6BA9FD55467}"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6C7F95-618B-452B-A785-A2EE9CD633EB}"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0ADA3DC-B12B-444A-BB37-7102D518EB4B}"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591BCA-D97C-45DC-ADBD-51F7C88CF216}"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85A956D-493F-4F50-8BC1-472A233C94B4}"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A943BA-97BF-4F12-8D74-EB13C0F86D69}"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487937-FF0E-471D-BE3B-475CFC09147F}"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AE5891-ACB3-4D4A-AA6B-8321896D9B39}"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3D493B-2E09-4DCA-AA9A-32FDAA3097B6}"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C610CAE-2948-4D7E-8D12-C0E06EDDC8A0}"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99F71A-16C9-43A0-9494-0EB491DB8BD1}"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385B0C-B77A-4BEF-AB44-588434A15D5B}"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BFD50D4-FA0E-4D14-9002-1E40E18FE60C}"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7FA353C-8CD7-46CC-A006-EE0763236B76}"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4FA661A-207D-4ABF-8FB8-8737DA2A9B13}"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E76E1B-D596-4FDC-BF87-37B6930E3C2F}"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CE8AE58-4FCA-43A2-80D9-F1CDBD27411C}"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