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14401"/>
        <c:axId val="6264084"/>
      </c:barChart>
      <c:catAx>
        <c:axId val="22314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4084"/>
        <c:crosses val="autoZero"/>
        <c:auto val="1"/>
        <c:lblAlgn val="ctr"/>
        <c:lblOffset val="100"/>
        <c:noMultiLvlLbl val="0"/>
      </c:catAx>
      <c:valAx>
        <c:axId val="6264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14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07F-A3ED-49AE-89C2-BF30AA34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957-FED9-403B-83D0-A81ECC9B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082-BFD8-406E-AAC2-4ED137B3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606-55CE-44AD-9756-45A741D4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4AE-B0B2-46E0-9B3E-347670C7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FAC-3000-4FEE-939C-1ED8DAF6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578-2679-4DC9-B8CA-7E5E88DA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480-AB8E-4FD1-A767-041F4FEA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37E-CFA2-4C28-A644-34C8AFBE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8AE-7B3A-471D-BCC3-54003B97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3A5-E90F-4E48-A5F6-97FF0256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01C-D0B1-4B25-9951-D3AA5863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DC8DA-4992-4028-961D-B5641E5F35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