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348640"/>
        <c:axId val="11977104"/>
      </c:barChart>
      <c:catAx>
        <c:axId val="65348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77104"/>
        <c:crosses val="autoZero"/>
        <c:auto val="1"/>
        <c:lblAlgn val="ctr"/>
        <c:lblOffset val="100"/>
        <c:noMultiLvlLbl val="0"/>
      </c:catAx>
      <c:valAx>
        <c:axId val="119771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48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CA6-B1A5-4697-95A4-D4546693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01C-9E35-4C8C-B259-27FFA0DA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F46-B645-4DC1-8B85-ABD02B16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33FE-153D-4FEF-914A-BA108ABEB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1A0-F0D8-476D-9010-EB43737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45C-EEB4-413C-852A-D7AA7FD7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51D7-0253-4676-9DD8-A825F3AC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277-C1CA-4489-AF64-742BE054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AC7-855A-424B-A5ED-79779CF0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BDB7-951C-4DAA-8C9A-4266F101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AF60-FD49-4370-9319-1DBF2FE4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629-4A8F-48FF-802A-8172AB74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73CAD-B87A-4EAC-9126-323D8F2165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